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B294-5413-4361-B4F1-48F50D3625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E6F8-953C-4B69-B94A-FE6A5BE772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37B1-7E2D-47C6-8992-06AE376402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43B-0744-4B92-9DCD-1E2C76BF36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CF47-1DFA-4C61-B0F1-03C962B8F4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DD6C-001E-4B79-A386-448AE04B86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8841-0ACD-4401-A341-ADED382D4E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550-8826-4BC4-9545-14D2225D64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51F-267B-47B3-8B63-15C7B6ADF5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6393-6288-4A07-80E3-74B8724C17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5EB-38B7-4CAF-8D17-BA799517E9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696-9327-44F5-98A5-0FDEDA11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0D4-A9FF-41B7-9A4E-BC17ADA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C7C6D-52A7-472C-843E-EFF772B0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37E8B-678D-4625-993E-DA697A84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67758-1847-48B7-BE82-0F2EAEA2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DCEDD-C0BA-4CFD-8B8A-30087C8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C2B5D-E596-4946-B928-4065B9CE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20A13-C730-4C71-83B4-6C9E7E6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BA1B0-39E6-40A1-8FF8-B081366E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1D1DC-A79B-477F-A7CF-199B893B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C12E4-6CF9-49E0-9245-A8681BC8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E03EA-050A-46E3-B420-633D7E71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705-9236-4E3C-9076-D0503455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5DFCB-82AE-487E-AF4F-2F4D5AB3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63A7C-309C-4911-ADEE-16186FC4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172C0-3DB1-4277-9605-00C986E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D5AFB-7715-47F2-B62C-C9026524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55E94-0D85-4DE9-99B8-CB3B81C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74CDE-B3FC-4F3F-B960-F8262C6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E22F1-6975-409A-BB12-0519E11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F80C0-BBAA-4080-B0ED-4257F5B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0AB1C-D0ED-42D9-9450-0D008BFC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4389F-1A60-453C-AA12-8DB22A7D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603-F48C-48E1-84F0-2F2DA977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81C98-0FF3-43EA-88E4-E6F6C092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7F9D-217E-4F54-A0F3-29ACE3CA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14F38-3DE2-42D1-928B-F120B15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546F3-BC2E-4DF0-AB1A-EF513548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E075-1283-4611-B078-1576F1BE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E396D-FA10-4199-8422-8E472125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67859-1B5C-4174-9D57-CBE642F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48DD4-48A3-41C7-9015-F705AC4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010A-2E28-4FBD-8E85-17C204F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352DD-9466-4DCB-9CF7-AA85145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FCE-FCC7-4173-82A6-948BF626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6731-061C-408F-8017-1D456CD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9A2B8-EACE-4EBD-89BC-AB35DBA0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A6822-6FB0-4D25-B914-211CD1C5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FF5BF-31B9-4322-8F67-154225AA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C5D39-2D89-467F-A2D9-7B39BECD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4F92C-89BD-43FB-B773-0B553C95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536F4-E8AE-4024-922E-4049B5D1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A714F-CE33-47D6-9AC5-31A6ABD4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30A38-207D-4534-A0AA-BFCD4627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6BB90-652F-46C3-9A9B-B613C1A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0D57-2524-4B85-AD3E-C05AFC91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A04E3-A283-4901-9EB9-C9A123A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1E620-7927-4330-A19F-5CB9709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0334C-3B5E-4D0C-A614-83C39BD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08D30-9B2B-450A-A791-B936F18F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4903D-F2B9-46BC-A457-3324EB67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6AE-199D-4EBB-BBAA-7DF30E1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4F4E-7A39-47A1-8032-BD7AC7D4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431-01CF-4D16-A82C-E44CF656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1F66-7B76-4C2D-A854-1A51C7C4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E7F3-2459-4FA7-A292-9BDF7CE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B17-CCFA-4C44-B4F5-7C80E7F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42F9-D06A-435E-9816-C4B0547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370-0E15-4444-9043-4CBEA02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265-1412-45DB-9678-AE0A400C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B56-08F2-44A0-8E8D-6D15F4C2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9080-D896-46A0-A0E5-538BBEA1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0FDC-FA15-4650-9319-53D5C896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70B0-F608-40E9-89DC-1B2328B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EBD4-0811-410A-9FF2-81828FCC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2D0C-8513-4D86-A196-ADAA969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F2B4-5659-4827-B92A-6FBF202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051-08A8-4D26-A9B6-918F9FAE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D85A-6F89-44A2-886F-B8F8CA64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46A7-C546-4AA9-A65C-6275F75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22FD-14F0-4F46-B1B2-84BDB19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CC80-A8C5-4AEE-82F0-B5553F17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6666-174C-4AC4-BBC5-C0EB6C4D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72DE-D273-4EC2-BD22-7F227AE1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0349-8AF2-4BB7-BD84-03CE7EF6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7F55-74B8-4BD4-83A4-6CEF2FD9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14F5-D7D6-4ADF-AD13-00918AE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BBD4-C678-43D4-8503-5119DA8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260-DF19-4A05-8F1F-51FF334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D7D6-E004-4304-9DED-A8496AA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F9D2-38B8-4D4C-9F5C-440AB62C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28AE1-7697-4792-B474-3D9C83A8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8117-1310-438A-AC03-220047F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C412-C60D-4C2A-8CC8-7441513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F629-15CA-478F-940B-6850905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A8CB-10FB-4CB1-939E-70F5BBA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803C-ED67-4A50-B4DC-CBBE1FC9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3EFF-7AC2-41AC-9A63-3C301272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CD25-BC49-4889-A1D0-4B95C7B3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BD7-9B3F-401E-82EF-ECD33E24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23D75-A82F-443A-A434-ECBBA1C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7557-5C81-4A6D-8309-0EB83415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DF8A-0CDB-4CF5-9F16-864BAAA1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C2F4D-6503-4D4A-9C8B-B0A565C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4A0C7-D20A-4E56-B7AF-3F99603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1A01-B480-4765-90A5-1E0A5437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D1C8-35EB-41F6-BACB-8AD4CAEB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E16D5-50C3-4C60-B411-79C5C61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D494-918D-4B9D-82CE-25DBABA3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69F5-FCDF-433B-B98C-1314FD61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408-3C2B-40CB-AE05-16CB34C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8D4E-0BD9-4976-8664-0E099DFA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32345-8903-49C1-9852-0A1FEF2C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E27A-0303-45F1-A897-DA526B5E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47FA-8D75-479B-8EA7-2D53E0AA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113A-9588-471B-96F7-627B1E9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BCCC-7509-4B77-8753-196A2F53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570C-104A-4BD4-8EC2-5EBF99F6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1E2E-9779-46CA-8BBD-842E3EE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526FA-FDA8-47B8-87D7-BD0BB73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AAF7C-45D7-49D9-A46F-796433E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56F-A314-402B-A8A7-C58B766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48CC-0159-48E5-9A16-152C4A7F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3A6D8-F7B3-446C-B2CD-598E4A33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4516B-A50C-4AC6-8B37-765DF391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EE1D-E6F1-482C-9CBB-DC559E1D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E6DB-0C04-4E0A-83CE-2845EDAA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D217C-A6E8-4BB9-9170-052DCC37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794D-52F8-46DD-9D82-92E2B67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F4D2F-8A84-4AF5-B8DA-50F5C5D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3978-717F-4627-8237-3E36A04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96FC-656B-4410-BF24-59B2570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6BA-8CB0-4072-90C7-03D8AF4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D689-7782-4EB7-A04C-80D0EC2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94F0A-AA1B-46C3-AF92-D8CAF05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BE19-765C-4587-9F02-6BF8EA2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075A-2E41-4912-B0B6-D2C9E43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4A41-664C-47F3-B1FC-1932E9DE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1C1A-7E8D-4C7F-804D-CE24DE43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351AC-45B1-495E-9756-0F48A06D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685D8-1A69-46A8-B960-90BDCBC1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6D9B3-C20B-4ECF-8777-520FDBF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302CF-6BBD-4D51-880B-07B6CD59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FA9-F803-45BF-8239-DFD8EB05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F453-D4E9-4160-926D-32C3E125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D80CE-BF8B-4CB1-927D-D1CF069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20F26-B012-43B3-A69E-31D8CA32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BE6A-F646-41E8-B6BB-F9C1D43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A13F-2EE1-4F73-ABB6-8664A248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9723-0CD7-4642-ACD1-7F5349C5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F1F4-8A5F-4F4B-BEC1-D60FB0D7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92E52-9985-42CA-9E54-13A7F8F1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8C636-AAF2-48A6-AB4A-65F6C33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70C54-1516-414D-8210-7804F7EE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3849-92EC-4F2A-96EA-4B1540F2B348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cteur droit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41AC-BB2A-4D74-A295-2E9F98DD4322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FA6-459B-4C89-A92E-A9823E691429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cteur droit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2F0-A0A3-4A12-92CD-7014B6AFF2C9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0FF-D93B-4741-A3BA-3A09FA83D0A8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612-D0BE-42D4-9BDC-24CDE0B481C9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cteur droit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EC1-C48F-48D3-931C-C3963DDCBCB6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cteur droit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6B8F-D861-4EA5-8695-194E2006B207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cteur droit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l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l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8B8F-7D60-4403-8F58-154DC38427DB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C4EC-CFF5-4BF6-A0A7-CA015F30DDB2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A72-B37E-481E-9796-FAA8FA245182}" type="slidenum">
              <a:rPr b="0" lang="fr-FR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cteur droit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4EC-9C52-4E87-A5ED-278CDA6E9A6C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Sous-titre 2"/>
          <p:cNvGrpSpPr/>
          <p:nvPr/>
        </p:nvGrpSpPr>
        <p:grpSpPr>
          <a:xfrm>
            <a:off x="1279440" y="2719440"/>
            <a:ext cx="6559560" cy="1908000"/>
            <a:chOff x="1279440" y="2719440"/>
            <a:chExt cx="6559560" cy="1908000"/>
          </a:xfrm>
        </p:grpSpPr>
        <p:pic>
          <p:nvPicPr>
            <p:cNvPr id="614" name="Sous-titre 2" descr=""/>
            <p:cNvPicPr/>
            <p:nvPr/>
          </p:nvPicPr>
          <p:blipFill>
            <a:blip r:embed="rId1"/>
            <a:stretch/>
          </p:blipFill>
          <p:spPr>
            <a:xfrm>
              <a:off x="1279440" y="2719440"/>
              <a:ext cx="65595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371600" y="281952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Titre 1" descr=""/>
          <p:cNvPicPr/>
          <p:nvPr/>
        </p:nvPicPr>
        <p:blipFill>
          <a:blip r:embed="rId2"/>
          <a:stretch/>
        </p:blipFill>
        <p:spPr>
          <a:xfrm>
            <a:off x="1805040" y="-1054080"/>
            <a:ext cx="5529240" cy="4619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"/>
          <p:cNvPicPr/>
          <p:nvPr/>
        </p:nvPicPr>
        <p:blipFill>
          <a:blip r:embed="rId3"/>
          <a:stretch/>
        </p:blipFill>
        <p:spPr>
          <a:xfrm>
            <a:off x="4071960" y="3429000"/>
            <a:ext cx="990720" cy="11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d16349"/>
                </a:solidFill>
                <a:latin typeface="Georgia"/>
              </a:rPr>
              <a:t>On mange beaucou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0" name="Image 4" descr="C:\Users\martine\Documents\Martine\Mes images\Noel 2007\DSCF4308.JPG"/>
          <p:cNvPicPr/>
          <p:nvPr/>
        </p:nvPicPr>
        <p:blipFill>
          <a:blip r:embed="rId1"/>
          <a:stretch/>
        </p:blipFill>
        <p:spPr>
          <a:xfrm>
            <a:off x="1547640" y="2637000"/>
            <a:ext cx="626436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7120" y="1500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Au début de décembre</a:t>
            </a:r>
            <a:br>
              <a:rPr sz="3300"/>
            </a:b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2643120" y="285840"/>
            <a:ext cx="1714680" cy="8985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1571760" y="45720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3"/>
          <a:stretch/>
        </p:blipFill>
        <p:spPr>
          <a:xfrm>
            <a:off x="6643800" y="285840"/>
            <a:ext cx="1361880" cy="904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4"/>
          <a:stretch/>
        </p:blipFill>
        <p:spPr>
          <a:xfrm>
            <a:off x="571680" y="35712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5"/>
          <a:stretch/>
        </p:blipFill>
        <p:spPr>
          <a:xfrm>
            <a:off x="6286680" y="4572000"/>
            <a:ext cx="923760" cy="123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</a:rPr>
              <a:t>Pour Saint Nicolas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ff"/>
              </a:solidFill>
              <a:latin typeface="Brush Script MT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5396040" y="267660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"/>
          <p:cNvPicPr/>
          <p:nvPr/>
        </p:nvPicPr>
        <p:blipFill>
          <a:blip r:embed="rId2"/>
          <a:stretch/>
        </p:blipFill>
        <p:spPr>
          <a:xfrm>
            <a:off x="3857760" y="2143080"/>
            <a:ext cx="1390680" cy="1357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2087640" cy="165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</a:rPr>
              <a:t>À Grenob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À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fr-FR" sz="2000" spc="-1" strike="noStrike">
                <a:solidFill>
                  <a:srgbClr val="ffffff"/>
                </a:solidFill>
                <a:latin typeface="Georgia"/>
              </a:rPr>
              <a:t>trasbour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2085840" y="3114720"/>
            <a:ext cx="1343160" cy="1865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5951520" y="3214800"/>
            <a:ext cx="2549520" cy="16984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Marchés de Noël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46b86"/>
                </a:solidFill>
                <a:latin typeface="Georgia"/>
              </a:rPr>
              <a:t>décoration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reestyle Script"/>
              </a:rPr>
              <a:t>A lot of families decorate their houses but it’s not alwways beautifu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4214880" y="1144440"/>
            <a:ext cx="1466640" cy="19512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"/>
          <p:cNvPicPr/>
          <p:nvPr/>
        </p:nvPicPr>
        <p:blipFill>
          <a:blip r:embed="rId2"/>
          <a:stretch/>
        </p:blipFill>
        <p:spPr>
          <a:xfrm>
            <a:off x="4071960" y="3143160"/>
            <a:ext cx="1763640" cy="1319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"/>
          <p:cNvPicPr/>
          <p:nvPr/>
        </p:nvPicPr>
        <p:blipFill>
          <a:blip r:embed="rId3"/>
          <a:stretch/>
        </p:blipFill>
        <p:spPr>
          <a:xfrm>
            <a:off x="5929200" y="178596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4"/>
          <a:srcRect l="0" t="1527" r="0" b="1527"/>
          <a:stretch/>
        </p:blipFill>
        <p:spPr>
          <a:xfrm>
            <a:off x="179280" y="1052640"/>
            <a:ext cx="278604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Le sapin de Noë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2500200" y="3714840"/>
            <a:ext cx="981360" cy="1305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928800" y="2500200"/>
            <a:ext cx="1181160" cy="1171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"/>
          <p:cNvPicPr/>
          <p:nvPr/>
        </p:nvPicPr>
        <p:blipFill>
          <a:blip r:embed="rId3"/>
          <a:stretch/>
        </p:blipFill>
        <p:spPr>
          <a:xfrm>
            <a:off x="4114800" y="2790720"/>
            <a:ext cx="914400" cy="1276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4"/>
          <a:stretch/>
        </p:blipFill>
        <p:spPr>
          <a:xfrm>
            <a:off x="6858000" y="2643120"/>
            <a:ext cx="971640" cy="1285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5"/>
          <a:stretch/>
        </p:blipFill>
        <p:spPr>
          <a:xfrm>
            <a:off x="5786280" y="421488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La nuit du 24 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2076120" cy="1571760"/>
          </a:xfrm>
          <a:prstGeom prst="rect">
            <a:avLst/>
          </a:prstGeom>
          <a:ln w="0">
            <a:noFill/>
          </a:ln>
        </p:spPr>
      </p:pic>
      <p:pic>
        <p:nvPicPr>
          <p:cNvPr id="648" name="Image 5" descr="C:\Users\martine\Documents\Martine\Mes images\décembre 2006\Noel 2006 080.jpg"/>
          <p:cNvPicPr/>
          <p:nvPr/>
        </p:nvPicPr>
        <p:blipFill>
          <a:blip r:embed="rId2"/>
          <a:stretch/>
        </p:blipFill>
        <p:spPr>
          <a:xfrm>
            <a:off x="3486240" y="2786040"/>
            <a:ext cx="3585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Users\martine\Documents\Martine\Mes images\Noel 2007\DSCF4304.JPG"/>
          <p:cNvPicPr/>
          <p:nvPr/>
        </p:nvPicPr>
        <p:blipFill>
          <a:blip r:embed="rId1"/>
          <a:stretch/>
        </p:blipFill>
        <p:spPr>
          <a:xfrm>
            <a:off x="-8839080" y="-6667560"/>
            <a:ext cx="26822160" cy="2019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Réveillon en famil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2663640" cy="2089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743040" y="2500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5857920" y="214308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2000160" y="3643200"/>
            <a:ext cx="1830600" cy="1214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"/>
          <p:cNvPicPr/>
          <p:nvPr/>
        </p:nvPicPr>
        <p:blipFill>
          <a:blip r:embed="rId5"/>
          <a:stretch/>
        </p:blipFill>
        <p:spPr>
          <a:xfrm>
            <a:off x="6000840" y="3929040"/>
            <a:ext cx="1342800" cy="1343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"/>
          <p:cNvPicPr/>
          <p:nvPr/>
        </p:nvPicPr>
        <p:blipFill>
          <a:blip r:embed="rId6"/>
          <a:stretch/>
        </p:blipFill>
        <p:spPr>
          <a:xfrm>
            <a:off x="3714840" y="39290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"/>
          <p:cNvPicPr/>
          <p:nvPr/>
        </p:nvPicPr>
        <p:blipFill>
          <a:blip r:embed="rId7"/>
          <a:stretch/>
        </p:blipFill>
        <p:spPr>
          <a:xfrm>
            <a:off x="857160" y="4357800"/>
            <a:ext cx="1509840" cy="150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3:56:58Z</dcterms:created>
  <dc:creator>martine</dc:creator>
  <dc:description/>
  <dc:language>en-US</dc:language>
  <cp:lastModifiedBy>Nicolas</cp:lastModifiedBy>
  <dcterms:modified xsi:type="dcterms:W3CDTF">2011-01-26T21:34:38Z</dcterms:modified>
  <cp:revision>3</cp:revision>
  <dc:subject/>
  <dc:title>Noël en France</dc:title>
</cp:coreProperties>
</file>